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09B-FAD4-4D42-871F-7AF59338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88C-0D08-45A1-8233-EEC04A43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3EF-F2B8-4B9A-A9E5-6981F5A7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7D7-6E71-4320-9457-158DAD28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0932-EFDD-4DC7-A003-7A96CF54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7861-0F15-4E1B-8A4E-BC98BDB3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DEB-729E-4747-8431-3D8D41A3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6346-24EC-404D-A801-17E05856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F537-F00F-4853-8B53-9BCA2139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91DB-48E1-461D-A1E4-A93153E3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D036-24D3-4E4A-9DDA-17D2AEB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F00-5B9A-4643-8978-76C6BA6E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D81D-7CCF-49B1-B3D4-D5F49A8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1B13-0514-406B-888D-7258612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A103-79FD-4FB8-A351-61B0A0D4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E884-7AC8-424D-A886-85A07096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B8D4-2BAC-48D1-8237-694C569C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825D-56A2-494D-BDD1-48185EFF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C4F7-0252-4D15-B11F-321CD29A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DC2F-D63F-4865-80D3-136271FD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473A-1315-43F2-AB59-7A735860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86A6-FE6E-4609-870F-D68D95E6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CB8-531F-4A76-8784-50ADA82B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379B1-28D8-44F9-970F-C77F17E6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E0C5-41B1-4295-BB88-B582DE9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1E31-424E-4292-98E3-933E8363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1836-1B02-49F3-BD4A-A826284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B3D5-032E-43A8-8676-462031A6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6106-289D-47B7-B583-A7FAB760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1574-2833-4155-9566-408AA33A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CE02A-6331-4C9D-85D8-523B8CE8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D7781-CAC7-4BA2-83AA-279DF1AA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0896E-BE7E-47ED-AEC8-8195BBF3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24C-24D3-440E-B548-4E7D6E48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41B19-7E13-488D-8D20-3F4C31C6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13CCE-1EBE-4303-B815-C84889B7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B5B37-08B8-4D61-BD16-CA52EB9D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6D5DA-6FC4-4B86-B8CE-08D7F00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C848F-85A5-4DF7-81B7-9477C3A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42E9C-77FB-43B9-B81C-65867241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31DC3-6801-4619-B135-1C5E922B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F0543-441A-436A-96BF-A5A9E08A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84249-1C4E-4D3D-B1EF-44968B2E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B41-E417-4909-85CE-4A8B107E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17D-1B0A-47DC-BE6E-B6BB1735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99D-6416-42B3-9580-B33CF839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E91-04FA-40C7-AF34-52716136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86A-2C18-483A-80C8-D46F5CB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AEA4-1A1F-4EA1-B1FC-FD75E25F663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FADC-9D2E-4B70-A7A8-7911F453041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7E9-3718-41B6-8B6F-034C9216BE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4B5D-94F2-4804-9E29-F928BD56CE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eb.mit.edu/invent/iow/christiansen.html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 rot="19785000">
            <a:off x="1278000" y="963360"/>
            <a:ext cx="473076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7218000"/>
                </a:gradFill>
                <a:latin typeface="Impact"/>
              </a:rPr>
              <a:t>LEG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7218000"/>
              </a:gradFill>
              <a:latin typeface="Impact"/>
              <a:ea typeface="Impact"/>
            </a:endParaRPr>
          </a:p>
        </p:txBody>
      </p:sp>
      <p:sp>
        <p:nvSpPr>
          <p:cNvPr id="432" name=""/>
          <p:cNvSpPr/>
          <p:nvPr/>
        </p:nvSpPr>
        <p:spPr>
          <a:xfrm>
            <a:off x="5943600" y="457200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acob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8763120" y="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0" y="4952880"/>
            <a:ext cx="5943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Crossing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0/4/20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828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tch Ole Kirk Christianse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e Kirk Christiansen was the founder of Leg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was born in 1891 in Filskov, Denma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was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 woodworker and a carpen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ing a woodworker he would make little wooden block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started his own busin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factory burnt down but he rebuilt i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rebuilding the factory, his business was dedicated to toy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1958 he di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e’s son took over the compa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e’s grandson than became the CEO of the compan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one else took over but Legos lived 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G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lions of children all over the world play with LEG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 actually means “I put together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S wer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ooden but turned into plast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S became so popular they built a lego based amusement pa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 obtained a trademark which was renamed Lego Bric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go sets were sold in the U.S. in 19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plo are Legos but bigger and safer for toddl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 became the Lego learning Institute, the Lego Educational Division, and the Lego Serious Pl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s are sold in 130 different countr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o sales are totaling over 1.5 billion doll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2666880" y="0"/>
            <a:ext cx="5562720" cy="19670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7620120" y="45720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Christiansen"/>
          <p:cNvPicPr/>
          <p:nvPr/>
        </p:nvPicPr>
        <p:blipFill>
          <a:blip r:embed="rId2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Christiansen"/>
          <p:cNvPicPr/>
          <p:nvPr/>
        </p:nvPicPr>
        <p:blipFill>
          <a:blip r:embed="rId3"/>
          <a:stretch/>
        </p:blipFill>
        <p:spPr>
          <a:xfrm>
            <a:off x="6934320" y="3200400"/>
            <a:ext cx="2209680" cy="36576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80880" y="59436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5665680"/>
            <a:ext cx="6400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melson MIT program,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g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September 29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web.mit.edu/invent/iow/christiansen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762120" y="26668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:JACOB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8Z</dcterms:created>
  <dc:creator>install</dc:creator>
  <dc:description/>
  <dc:language>en-US</dc:language>
  <cp:lastModifiedBy>install</cp:lastModifiedBy>
  <dcterms:modified xsi:type="dcterms:W3CDTF">2010-10-14T17:30:54Z</dcterms:modified>
  <cp:revision>22</cp:revision>
  <dc:subject/>
  <dc:title>Slide 1</dc:title>
</cp:coreProperties>
</file>